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00D-F42C-4B26-A9B4-E41EB08F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85F-F8FA-4BCB-BDE9-791380C7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ECF-DFC9-4BEF-A8CB-538DCBC7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3C0-B5B0-478E-AD23-03267E1A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18A-E635-421A-8786-34CBB5D0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5A7B-3F0D-460E-A791-A260A32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95C1-15B6-4DE1-8841-12A7201A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D0BD-78EE-47A2-9FB4-2D4FF3CC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A20C-4148-4720-B236-3CD7DA6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67FE-2879-4610-90D8-16FAE39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CDC4-AF48-46F7-ABB0-FC7118D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98F-085B-4AEA-B9F8-F89CA32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098-414B-43A3-86F5-0A3CD61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D53F-C1BD-4E7E-97F5-71B7D1D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01AD-7E90-4BC2-961D-3A12F3E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02D9-8BC8-4934-BE0E-01F354F9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4492-83FB-49CE-A270-BDA8CD33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958-5820-4FFF-AFC5-ACBA1DC4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910-5CFC-4DCC-BEA8-3163FFD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A84-3D3C-42ED-BDF8-275B9FEE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9B4-56B1-4DE5-B7FC-73C9A99C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A91-24CA-4233-9E4D-FCEE3E6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E71-0558-4211-8C6C-CB9469F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39A-4E04-43AD-BB6C-AE0A1C21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A611-CE9F-493E-952C-C51436D826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E892-CC11-4508-A77B-458FA38D69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01000" cy="4952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Comic Sans MS"/>
              </a:rPr>
              <a:t>Fractions: Are they Mixed-up or just Improper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will answer the essential question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“How does math help me understand my world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ough classroom discussion, lessons about fractions and a final project, students will demonstrate their understanding of fractions and the various, equivalent ways they can be writ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sential Question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will math help me understand my world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it Ques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do we need to learn fractions and where do we use fractions in our daily live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e fractions a part of natur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e fractions a part of daily life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ent Ques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 frac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are ways to represent fractions differently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n equivalent frac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n improper frac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 mixed numb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does it mean to “convert”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165276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0047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7400" y="2133720"/>
            <a:ext cx="5638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Fraction Basic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6400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What Is a 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Fraction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9640" y="1828440"/>
            <a:ext cx="74120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fraction names a piece of a single 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s is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e-half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of a cook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4280" y="3886200"/>
            <a:ext cx="83055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fraction names a part of a group of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e-third or 1 out of 3 cookies are chocolate c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133720" y="525780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334120" y="533412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1200" y="151920"/>
            <a:ext cx="667512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Fraction 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No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3581280"/>
            <a:ext cx="1523880" cy="642600"/>
          </a:xfrm>
          <a:prstGeom prst="wedgeRectCallout">
            <a:avLst>
              <a:gd name="adj1" fmla="val -138851"/>
              <a:gd name="adj2" fmla="val 14468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is is the numer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5943600"/>
            <a:ext cx="1981440" cy="642600"/>
          </a:xfrm>
          <a:prstGeom prst="wedgeRectCallout">
            <a:avLst>
              <a:gd name="adj1" fmla="val 77625"/>
              <a:gd name="adj2" fmla="val -11735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is is the denomin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5181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522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fraction is a number used to name a part of a group or a part of a w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581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fraction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e-fourth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s written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530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number </a:t>
            </a:r>
            <a:r>
              <a:rPr b="1" lang="en-US" sz="2400" spc="-1" strike="noStrike" u="sng">
                <a:solidFill>
                  <a:srgbClr val="ffb800"/>
                </a:solidFill>
                <a:uFillTx/>
                <a:latin typeface="Arial Rounded MT Bold"/>
              </a:rPr>
              <a:t>abov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he bar is the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umerator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number </a:t>
            </a:r>
            <a:r>
              <a:rPr b="1" lang="en-US" sz="2400" spc="-1" strike="noStrike" u="sng">
                <a:solidFill>
                  <a:srgbClr val="ffb800"/>
                </a:solidFill>
                <a:uFillTx/>
                <a:latin typeface="Arial Rounded MT Bold"/>
              </a:rPr>
              <a:t>below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he bar is the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nominator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Fraction 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Model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ractions can be shown as parts of a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43200" y="2438280"/>
            <a:ext cx="60958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re is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a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ut of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parts is shaded in, so we say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one-fourt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11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r as parts of a rect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168880" y="4218120"/>
            <a:ext cx="3679920" cy="263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181480" y="4218120"/>
            <a:ext cx="3679920" cy="263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00200" y="5334120"/>
            <a:ext cx="7543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re is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3/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a rect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ut of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parts are shaded in, so we say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three-fourth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actions can be written in different ways.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200"/>
                </a:solidFill>
                <a:latin typeface="Comic Sans MS"/>
              </a:rPr>
              <a:t>BUT MEAN THE SAME THING!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Eldred Central School</cp:lastModifiedBy>
  <dcterms:modified xsi:type="dcterms:W3CDTF">2010-06-30T19:50:00Z</dcterms:modified>
  <cp:revision>33</cp:revision>
  <dc:subject/>
  <dc:title>Fraction Basics</dc:title>
</cp:coreProperties>
</file>